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5.jpeg" ContentType="image/jpeg"/>
  <Override PartName="/ppt/media/image6.pct" ContentType="image/x-pict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E6B-F6BA-4B3E-8D97-333BEE61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879-640E-4C19-AF06-7E8E64B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320-BDD9-461A-A2A0-6418C02D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197-65A4-4E5B-8584-24C3E2C2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CA03-0835-4051-8B13-06C8EDE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B69-1693-4491-BF9D-4DC7E8C3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EF09-491E-49B9-92A0-E53CFE1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938-5E49-4B20-AE2D-37332A5D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3373-1B7A-48CC-AEA0-8730D65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D35-5F72-43E5-AFAF-463D7F53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17BF-B49A-4DBB-87DA-F11B14A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3E6-3B2D-403E-A0EF-B03E9285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4737-D2CA-4F16-9960-DAD903DA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01BE-4F31-4D1C-A726-7FEEF59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DAF6-6C7B-48B0-835D-C95D48C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46BF-0931-4B66-98BB-534DFCE6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BE3-EB4D-4E18-8504-E835704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9E6-4B94-476B-8D7F-61495AE4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A65-FDC8-4B93-B2BC-14499A7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2D8-2E4F-45C7-B1C4-6124A5D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8AD-983B-4EFF-AAB1-414AF1D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93F-1728-4EAD-AF81-91167B2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0B5-435B-4BF9-A142-891A385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F9-A56C-4FE2-BEA2-812D321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27C-0C26-44A3-8BBF-B0445D8F3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5CA6-F592-4C93-8051-E26173AE0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umanbenchmark.com/tests/reactiontime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ects of Red Bull on Reaction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ucker R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affeine amounts affect dopamin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opamine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addict downward spi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test I found 15 times a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 a Red Bull and wait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5 minutes take test 15 tim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ll the times and averages to see change with and without Red 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people participated in the experiment, and all 20 had improved reaction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ypothesis was that there would be an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 true by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un and educa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action Sp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al of time that occurs between between a stimulus being revealed and the initiation of a muscular response to the presented stim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severa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measured with differen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umanbenchmark.com/tests/reactiontime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the changing of the screen is the stimulant and the amount of time it take to click the mouse is the reaction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everal times for base, then several times with a Red B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58000" y="5407200"/>
            <a:ext cx="2286000" cy="145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0" y="5734080"/>
            <a:ext cx="15238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at Makes Red Bull, Red Bull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ull’s very active list of ingredients is what produces its human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uronolac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rose, Glucose, Vitamin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t Affect the Bo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listed on the can: Improves performance, especially during times of increased stress or strain; Increases endurance; Increases concentration and improves reaction speed; Stimulates the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od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show that it can increase your chance of blood clotting as your blood becomes “sticki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researcher shows that a single can can cause one’s cardiovascular profile to resemble that of someone with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heart palpitations, one in a 15 year old b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in som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like a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nduced heart attacks in sever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 affects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chemical 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bonding with receptors causes drowsines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s see caffeine the same as adenos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ffeine binds to receptors so drowsiness cant be caused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tual Process In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denosine blocked neurons in the brain turn on like craz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seems like there is an emergency, the pituitary gland activates the body’s “fight or flight plan” by sending adrenaline throughout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s several things in the body (heart, liver, blood vessels, pupils, breathing tub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5:38:14Z</dcterms:created>
  <dc:creator>Tucker Rhodes</dc:creator>
  <dc:description/>
  <dc:language>en-US</dc:language>
  <cp:lastModifiedBy>Tucker Rhodes</cp:lastModifiedBy>
  <dcterms:modified xsi:type="dcterms:W3CDTF">2011-04-20T07:37:55Z</dcterms:modified>
  <cp:revision>3</cp:revision>
  <dc:subject/>
  <dc:title>The Effects of Red Bull on Reaction Speed</dc:title>
</cp:coreProperties>
</file>